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37B9-93F9-44ED-A61D-38DDDE1A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45E4-618C-4E91-8C19-4C33CD90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8452-4DE5-4A4A-AA5C-AD88BDE08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9794-3325-4736-A651-CF2A0C73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08A2-A02D-4BCC-B6C7-B9F80B5D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D009-7B57-44CC-81CA-D7966E54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077B-AB60-4DF4-A7EC-C7C643CC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C319-61A6-45A2-B05C-A0ED489F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3C0F-FBF5-4059-A51E-6E483599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9076-82A6-42D5-BA5A-11296DD7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7DA9-EEA4-492C-9A64-1C60F05F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78D7-40BE-4293-8742-A1734E04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8D1EEA-C556-49C0-97FF-31C2187ECF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582061-330F-4FB6-BE05-4038CBBFC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der Pressure, Part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8</a:t>
            </a:r>
            <a:r>
              <a:rPr b="0" lang="en-US" sz="3200" spc="-1" strike="noStrike" baseline="30000">
                <a:solidFill>
                  <a:srgbClr val="898989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Grade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itu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titude is the height above sea level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s altitude _____________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tmospheric pressure _____________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o, If I am walking up a mountain, the atmospheric pressure is ______________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o, If I start walking down the mountain, the atmospheric pressure starts to ______________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f I didn’t stop, and I just kept walking into the ocean, the pressure would continue to ______________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p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th is the distance below sea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depth ______________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pressure 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Chihuahua Scuba Diver.jpg"/>
          <p:cNvPicPr/>
          <p:nvPr/>
        </p:nvPicPr>
        <p:blipFill>
          <a:blip r:embed="rId1"/>
          <a:stretch/>
        </p:blipFill>
        <p:spPr>
          <a:xfrm>
            <a:off x="3408480" y="4068720"/>
            <a:ext cx="231768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oyant For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oyant Force is the upward force exerted on an object immersed in flui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Twiggy.jpg"/>
          <p:cNvPicPr/>
          <p:nvPr/>
        </p:nvPicPr>
        <p:blipFill>
          <a:blip r:embed="rId1"/>
          <a:stretch/>
        </p:blipFill>
        <p:spPr>
          <a:xfrm>
            <a:off x="2884320" y="2655720"/>
            <a:ext cx="3349800" cy="2506680"/>
          </a:xfrm>
          <a:prstGeom prst="rect">
            <a:avLst/>
          </a:prstGeom>
          <a:ln w="0">
            <a:noFill/>
          </a:ln>
        </p:spPr>
      </p:pic>
      <p:sp>
        <p:nvSpPr>
          <p:cNvPr id="51" name="Up Arrow 4"/>
          <p:cNvSpPr/>
          <p:nvPr/>
        </p:nvSpPr>
        <p:spPr>
          <a:xfrm>
            <a:off x="3084480" y="5162400"/>
            <a:ext cx="822240" cy="824040"/>
          </a:xfrm>
          <a:prstGeom prst="upArrow">
            <a:avLst>
              <a:gd name="adj1" fmla="val 50000"/>
              <a:gd name="adj2" fmla="val 50109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Up Arrow 6"/>
          <p:cNvSpPr/>
          <p:nvPr/>
        </p:nvSpPr>
        <p:spPr>
          <a:xfrm>
            <a:off x="4075200" y="5162400"/>
            <a:ext cx="823680" cy="824040"/>
          </a:xfrm>
          <a:prstGeom prst="upArrow">
            <a:avLst>
              <a:gd name="adj1" fmla="val 50000"/>
              <a:gd name="adj2" fmla="val 50022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Up Arrow 7"/>
          <p:cNvSpPr/>
          <p:nvPr/>
        </p:nvSpPr>
        <p:spPr>
          <a:xfrm>
            <a:off x="5118120" y="5162400"/>
            <a:ext cx="824040" cy="824040"/>
          </a:xfrm>
          <a:prstGeom prst="up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2676240" y="629136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do we measure buoyant forc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medes’ Princi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chimedes’ Principle states that the buoyant force on an object is equal to the weight of the fluid displaced by the o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Marble Bathtub.jpg"/>
          <p:cNvPicPr/>
          <p:nvPr/>
        </p:nvPicPr>
        <p:blipFill>
          <a:blip r:embed="rId1"/>
          <a:stretch/>
        </p:blipFill>
        <p:spPr>
          <a:xfrm>
            <a:off x="2720880" y="3355920"/>
            <a:ext cx="414972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10:37:22Z</dcterms:created>
  <dc:creator>Cleophis Carson</dc:creator>
  <dc:description/>
  <dc:language>en-US</dc:language>
  <cp:lastModifiedBy>Cleophis Carson</cp:lastModifiedBy>
  <dcterms:modified xsi:type="dcterms:W3CDTF">2011-09-21T14:30:40Z</dcterms:modified>
  <cp:revision>1</cp:revision>
  <dc:subject/>
  <dc:title>Under Pressure, Part II</dc:title>
</cp:coreProperties>
</file>